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516E6-83FF-43C2-B732-389BEA00C1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48A97-82E6-49B4-8D43-4255A641D8A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CC3BF-0825-48A5-A911-ED9F5DE1EA2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733C6-CC7D-41C0-843B-D2BAEC9D41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F75A1-E9C4-419F-B452-24277AC975A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A4E9-C0DC-497B-BD46-8459206C7F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3B45-8B60-4125-A339-0C2F4D3B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949C-635F-494B-AA2F-25E667F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2CD7-6B0F-4243-9FEA-9EEEBF256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29A1-DBEC-4755-BDE4-4B4E7638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9D0C-D026-4E6A-AFC8-49CCD700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AA02-6686-41A7-9395-4EA5D09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E1B3-5A58-468A-8589-DEA9E189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4B71-F41A-42BE-BBB5-E1047970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14F0-CAB6-48FA-9DE9-3247ABCF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3807-B70D-445F-8027-C91BF26F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9E51-8864-4CDE-BA5F-4B721505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35A75B-A720-4612-B6A1-58C728A23B0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DINÁMICA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geosf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84360" y="1197000"/>
            <a:ext cx="7956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interno de la Tierra, llamado energía geotérmica, aumenta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ofundidad y es el motor de la dinámica interna de la geosf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s desplazamientos se denominan corrientes de convec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námica de la geo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3348000" y="2340000"/>
            <a:ext cx="287964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755640" y="3933720"/>
            <a:ext cx="2521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intenso calor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manto profund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e que las roca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hagan meno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nsas y asciendan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ia la superfic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659640" y="2637000"/>
            <a:ext cx="24843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acercarse al manto superior, las rocas se enfrían y se hacen más densas, volviendo a hundirse hacia zonas más profundas, donde vuelven a calentarse y ascen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660760" y="4826160"/>
            <a:ext cx="1838160" cy="145800"/>
          </a:xfrm>
          <a:prstGeom prst="rightArrow">
            <a:avLst>
              <a:gd name="adj1" fmla="val 34648"/>
              <a:gd name="adj2" fmla="val 132319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 rot="10800000">
            <a:off x="4856040" y="3132000"/>
            <a:ext cx="1627200" cy="146160"/>
          </a:xfrm>
          <a:prstGeom prst="rightArrow">
            <a:avLst>
              <a:gd name="adj1" fmla="val 38093"/>
              <a:gd name="adj2" fmla="val 140554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3 CuadroTexto"/>
          <p:cNvSpPr/>
          <p:nvPr/>
        </p:nvSpPr>
        <p:spPr>
          <a:xfrm>
            <a:off x="324000" y="400536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4 CuadroTexto"/>
          <p:cNvSpPr/>
          <p:nvPr/>
        </p:nvSpPr>
        <p:spPr>
          <a:xfrm>
            <a:off x="6227640" y="2708280"/>
            <a:ext cx="36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1T10:23:16Z</dcterms:modified>
  <cp:revision>44</cp:revision>
  <dc:subject/>
  <dc:title>Diapositiva 1</dc:title>
</cp:coreProperties>
</file>